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0ABE-963A-4A0E-B910-5B4F339FE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63DE-9B81-41C5-8E8E-A25AE11C51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 minu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ranslation, storytelling, instant messaging, catalog shopping, doing financial paperwork, writing papers, reciting the Quran, designing a web page, etc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Y we do those things (I.e., to learn, to glean information, to communicate, to make a social or political or cultural statement, to “escape,” self-improvement, to learn how to do somethin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does this mean for teaching litera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Get to know your students, their families, their commun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What sorts of literacy practices or sign systems are they familiar wi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Are they bilingual? Does someone in the household read braille? Is mom a geograp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-&gt; How can you find these things ou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Build on students’ literacy knowledge to teach new literacy practices or sign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77C2-8F18-4B55-A8B9-E3683B2649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ＭＳ Ｐゴシック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ＭＳ Ｐゴシック"/>
              </a:rPr>
              <a:t>We talk about being artistically literate, computer literate, etc.  So:  What does it mean to be literate???  What is litera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ＭＳ Ｐゴシック"/>
              </a:rPr>
              <a:t>--&gt; Have students talk about this with a partner or a group of 3 for 3 minutes, and come up with a definition.  Then, share o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E79D-63DF-45D5-85CE-257637104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1065-061A-4C5F-8EBF-6E52B6028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387-D358-4D02-98E9-94C45DB88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5894-5576-4EDD-8CDA-99D5A215C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E72-C1F5-4C80-A48F-0664ECA5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202-8766-4EDD-809B-3D6EB947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9D9-E930-451B-98E4-152D0F24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E42-BA07-4FD9-AD0D-54BE1215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AEE1-CF9A-42E0-9EB3-4AE50A10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EC55-B65A-4F1A-B4B1-00F36CB6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7DF1-546E-4C0B-89FB-67DA72AC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870A-9743-44C6-9CB5-59811DE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307E-CE67-448D-9F7D-65E27224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750D-722F-4A42-845F-B2EFD8F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B33B-B36B-43D6-AD2D-7C7F48C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723-1BB6-4958-B1F0-6548B6C8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23A-6B93-4F64-96E7-4B0E06C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B45F-D1EA-4E24-B673-2BECBA5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C8F9-08BC-4FBB-B02E-4752CF5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51CE-C512-4E79-A5B3-35C53AEB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BD87-112E-4FB6-882B-2C531A91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F09F-D7F2-4AD8-AFFB-98B64A25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AD8C-346B-49FD-95E8-ED4028A5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4B64-D367-4818-AE3F-23EA821C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FCE6-C97C-4825-B6F1-83286DC0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3E86-742A-42B4-B1D0-1F12D0A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986-DC84-4163-852F-6536568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A188-EA18-4811-B0A9-87E387AF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F30E-C3FC-40BF-B381-F14E2EA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9B05-8A71-491E-ACA2-5BEE42E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005D-DC3A-47A4-99E9-F8167F0C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AC95-A034-4F68-87D5-F881AE3D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EDD8-DDEA-45EB-96A2-A591C415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B528-1FB6-4818-97C6-44E77D03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75EE-1943-42B9-B575-A7B819A8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F8CF-5EE4-4884-935E-FF6D0C3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22A9-D764-40B7-9F6E-23EA24C9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894-7798-4353-80E0-B8EC04D1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1255-9177-4980-8DA8-EEEC807B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1D15-09DA-4C4E-A744-55D760E5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E45D-2D42-4D17-9E7A-9EE5E2E0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FF3B-AA7C-4CBA-A438-0EFB8C7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3F29-6C4E-49DC-B395-40B1F8C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BE4E-ADB1-4C19-B5D8-F66F212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7A31-0EE0-4D45-909C-E4EE14C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42B8-8317-4009-BECC-07E1AEF9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E09E-BBDA-44F8-B92E-A947DFA7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7E37-564F-48FF-B8DD-11A823C7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7E3-DC1B-4668-A815-80539BD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4DDC-6FBC-48BB-BEA8-AC1EEE35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09642-4ACB-4774-8366-91A56B49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3F9C2-99A2-41E0-99CA-310BACB8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44B1E-1AF3-4436-A217-473CB6C5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11A31-42B2-4CCF-BE6E-0CF1A52A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3964-EF33-4A8D-AC7E-D8CAFD9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BBE26-32CC-452F-AE47-A524E69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827B-A376-4612-893A-0247B2F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18114-6305-4C46-AE42-0B759758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BA7FE-98B1-4A19-B378-45B1A3CF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B57-870D-4C37-B6BC-BECA8EC4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8B5D-A696-4AE4-A608-28E59CC7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ABB-C675-4906-99C7-769A473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9F2-FE0F-4EFB-AE02-87BFC49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A5C-33E1-4FAD-A7DC-E02D2A5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25.xml"/><Relationship Id="rId24" Type="http://schemas.openxmlformats.org/officeDocument/2006/relationships/slideLayout" Target="../slideLayouts/slideLayout26.xml"/><Relationship Id="rId25" Type="http://schemas.openxmlformats.org/officeDocument/2006/relationships/slideLayout" Target="../slideLayouts/slideLayout27.xml"/><Relationship Id="rId26" Type="http://schemas.openxmlformats.org/officeDocument/2006/relationships/slideLayout" Target="../slideLayouts/slideLayout28.xml"/><Relationship Id="rId27" Type="http://schemas.openxmlformats.org/officeDocument/2006/relationships/slideLayout" Target="../slideLayouts/slideLayout29.xml"/><Relationship Id="rId28" Type="http://schemas.openxmlformats.org/officeDocument/2006/relationships/slideLayout" Target="../slideLayouts/slideLayout30.xml"/><Relationship Id="rId29" Type="http://schemas.openxmlformats.org/officeDocument/2006/relationships/slideLayout" Target="../slideLayouts/slideLayout31.xml"/><Relationship Id="rId30" Type="http://schemas.openxmlformats.org/officeDocument/2006/relationships/slideLayout" Target="../slideLayouts/slideLayout32.xml"/><Relationship Id="rId31" Type="http://schemas.openxmlformats.org/officeDocument/2006/relationships/slideLayout" Target="../slideLayouts/slideLayout33.xml"/><Relationship Id="rId32" Type="http://schemas.openxmlformats.org/officeDocument/2006/relationships/slideLayout" Target="../slideLayouts/slideLayout34.xml"/><Relationship Id="rId33" Type="http://schemas.openxmlformats.org/officeDocument/2006/relationships/slideLayout" Target="../slideLayouts/slideLayout35.xml"/><Relationship Id="rId3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37.xml"/><Relationship Id="rId24" Type="http://schemas.openxmlformats.org/officeDocument/2006/relationships/slideLayout" Target="../slideLayouts/slideLayout38.xml"/><Relationship Id="rId25" Type="http://schemas.openxmlformats.org/officeDocument/2006/relationships/slideLayout" Target="../slideLayouts/slideLayout39.xml"/><Relationship Id="rId26" Type="http://schemas.openxmlformats.org/officeDocument/2006/relationships/slideLayout" Target="../slideLayouts/slideLayout40.xml"/><Relationship Id="rId27" Type="http://schemas.openxmlformats.org/officeDocument/2006/relationships/slideLayout" Target="../slideLayouts/slideLayout41.xml"/><Relationship Id="rId28" Type="http://schemas.openxmlformats.org/officeDocument/2006/relationships/slideLayout" Target="../slideLayouts/slideLayout42.xml"/><Relationship Id="rId29" Type="http://schemas.openxmlformats.org/officeDocument/2006/relationships/slideLayout" Target="../slideLayouts/slideLayout43.xml"/><Relationship Id="rId30" Type="http://schemas.openxmlformats.org/officeDocument/2006/relationships/slideLayout" Target="../slideLayouts/slideLayout44.xml"/><Relationship Id="rId31" Type="http://schemas.openxmlformats.org/officeDocument/2006/relationships/slideLayout" Target="../slideLayouts/slideLayout45.xml"/><Relationship Id="rId32" Type="http://schemas.openxmlformats.org/officeDocument/2006/relationships/slideLayout" Target="../slideLayouts/slideLayout46.xml"/><Relationship Id="rId33" Type="http://schemas.openxmlformats.org/officeDocument/2006/relationships/slideLayout" Target="../slideLayouts/slideLayout47.xml"/><Relationship Id="rId3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49.xml"/><Relationship Id="rId24" Type="http://schemas.openxmlformats.org/officeDocument/2006/relationships/slideLayout" Target="../slideLayouts/slideLayout50.xml"/><Relationship Id="rId25" Type="http://schemas.openxmlformats.org/officeDocument/2006/relationships/slideLayout" Target="../slideLayouts/slideLayout51.xml"/><Relationship Id="rId26" Type="http://schemas.openxmlformats.org/officeDocument/2006/relationships/slideLayout" Target="../slideLayouts/slideLayout52.xml"/><Relationship Id="rId27" Type="http://schemas.openxmlformats.org/officeDocument/2006/relationships/slideLayout" Target="../slideLayouts/slideLayout53.xml"/><Relationship Id="rId28" Type="http://schemas.openxmlformats.org/officeDocument/2006/relationships/slideLayout" Target="../slideLayouts/slideLayout54.xml"/><Relationship Id="rId29" Type="http://schemas.openxmlformats.org/officeDocument/2006/relationships/slideLayout" Target="../slideLayouts/slideLayout55.xml"/><Relationship Id="rId30" Type="http://schemas.openxmlformats.org/officeDocument/2006/relationships/slideLayout" Target="../slideLayouts/slideLayout56.xml"/><Relationship Id="rId31" Type="http://schemas.openxmlformats.org/officeDocument/2006/relationships/slideLayout" Target="../slideLayouts/slideLayout57.xml"/><Relationship Id="rId32" Type="http://schemas.openxmlformats.org/officeDocument/2006/relationships/slideLayout" Target="../slideLayouts/slideLayout58.xml"/><Relationship Id="rId33" Type="http://schemas.openxmlformats.org/officeDocument/2006/relationships/slideLayout" Target="../slideLayouts/slideLayout59.xml"/><Relationship Id="rId3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8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4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7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3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3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0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1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3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6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6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7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68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69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0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74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5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78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9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8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8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F95E-69BF-4B25-99D0-A5F0981A8910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26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128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129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13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13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39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4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14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152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15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15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162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1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16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175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176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177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182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18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18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9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2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193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194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5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199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0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20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4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20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7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0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209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0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6E98-6CA3-46AD-B4AB-C8C40D2B8BA9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254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256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257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25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26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26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27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7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80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28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5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290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29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29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303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304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305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06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310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1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31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31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8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1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20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321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32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3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32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8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33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2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33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5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3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337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8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7002-47D2-4790-8593-85338F0BEFC5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3"/>
    <p:sldLayoutId id="2147483676" r:id="rId24"/>
    <p:sldLayoutId id="2147483677" r:id="rId25"/>
    <p:sldLayoutId id="2147483678" r:id="rId26"/>
    <p:sldLayoutId id="2147483679" r:id="rId27"/>
    <p:sldLayoutId id="2147483680" r:id="rId28"/>
    <p:sldLayoutId id="2147483681" r:id="rId29"/>
    <p:sldLayoutId id="2147483682" r:id="rId30"/>
    <p:sldLayoutId id="2147483683" r:id="rId31"/>
    <p:sldLayoutId id="2147483684" r:id="rId32"/>
    <p:sldLayoutId id="2147483685" r:id="rId33"/>
    <p:sldLayoutId id="2147483686" r:id="rId3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382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84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385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38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38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395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6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39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40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408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40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41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418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2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25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431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432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433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4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438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44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3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445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6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4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48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449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450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1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455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45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0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46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3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6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6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F880-F04F-4FA3-B71B-688BD29C746D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3"/>
    <p:sldLayoutId id="2147483689" r:id="rId24"/>
    <p:sldLayoutId id="2147483690" r:id="rId25"/>
    <p:sldLayoutId id="2147483691" r:id="rId26"/>
    <p:sldLayoutId id="2147483692" r:id="rId27"/>
    <p:sldLayoutId id="2147483693" r:id="rId28"/>
    <p:sldLayoutId id="2147483694" r:id="rId29"/>
    <p:sldLayoutId id="2147483695" r:id="rId30"/>
    <p:sldLayoutId id="2147483696" r:id="rId31"/>
    <p:sldLayoutId id="2147483697" r:id="rId32"/>
    <p:sldLayoutId id="2147483698" r:id="rId33"/>
    <p:sldLayoutId id="2147483699" r:id="rId3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510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512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513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1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51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523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52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8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53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1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536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53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54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1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546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7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55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55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4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59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61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2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66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7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57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1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57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4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7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6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577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578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9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583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4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58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8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59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1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9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593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3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1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926-F939-436F-A26E-1F5DD4A2F984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3"/>
    <p:sldLayoutId id="2147483702" r:id="rId24"/>
    <p:sldLayoutId id="2147483703" r:id="rId25"/>
    <p:sldLayoutId id="2147483704" r:id="rId26"/>
    <p:sldLayoutId id="2147483705" r:id="rId27"/>
    <p:sldLayoutId id="2147483706" r:id="rId28"/>
    <p:sldLayoutId id="2147483707" r:id="rId29"/>
    <p:sldLayoutId id="2147483708" r:id="rId30"/>
    <p:sldLayoutId id="2147483709" r:id="rId31"/>
    <p:sldLayoutId id="2147483710" r:id="rId32"/>
    <p:sldLayoutId id="2147483711" r:id="rId33"/>
    <p:sldLayoutId id="2147483712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Title 1"/>
          <p:cNvGrpSpPr/>
          <p:nvPr/>
        </p:nvGrpSpPr>
        <p:grpSpPr>
          <a:xfrm>
            <a:off x="1816200" y="1878120"/>
            <a:ext cx="7181640" cy="1633320"/>
            <a:chOff x="1816200" y="1878120"/>
            <a:chExt cx="7181640" cy="1633320"/>
          </a:xfrm>
        </p:grpSpPr>
        <p:pic>
          <p:nvPicPr>
            <p:cNvPr id="645" name="Title 1" descr=""/>
            <p:cNvPicPr/>
            <p:nvPr/>
          </p:nvPicPr>
          <p:blipFill>
            <a:blip r:embed="rId1"/>
            <a:stretch/>
          </p:blipFill>
          <p:spPr>
            <a:xfrm>
              <a:off x="1816200" y="1878120"/>
              <a:ext cx="718164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1893960" y="1959120"/>
              <a:ext cx="7021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Beyond the Basal: </a:t>
              </a:r>
              <a:r>
                <a:rPr b="1" i="1" lang="en-US" sz="3200" spc="-1" strike="noStrike">
                  <a:solidFill>
                    <a:srgbClr val="604a7b"/>
                  </a:solidFill>
                  <a:latin typeface="Comic Sans MS"/>
                </a:rPr>
                <a:t>Defining Literacy and What it Means to be Liter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Subtitle 2"/>
          <p:cNvGrpSpPr/>
          <p:nvPr/>
        </p:nvGrpSpPr>
        <p:grpSpPr>
          <a:xfrm>
            <a:off x="2127240" y="3657600"/>
            <a:ext cx="6559560" cy="2292480"/>
            <a:chOff x="2127240" y="3657600"/>
            <a:chExt cx="6559560" cy="2292480"/>
          </a:xfrm>
        </p:grpSpPr>
        <p:pic>
          <p:nvPicPr>
            <p:cNvPr id="648" name="Subtitle 2" descr=""/>
            <p:cNvPicPr/>
            <p:nvPr/>
          </p:nvPicPr>
          <p:blipFill>
            <a:blip r:embed="rId2"/>
            <a:stretch/>
          </p:blipFill>
          <p:spPr>
            <a:xfrm>
              <a:off x="2127240" y="3657600"/>
              <a:ext cx="655956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2203560" y="3733920"/>
              <a:ext cx="64008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June 15, 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Presented by Dana Karraker and Tami De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ROE #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933c"/>
                  </a:solidFill>
                  <a:latin typeface="Comic Sans MS"/>
                </a:rPr>
                <a:t>Please sign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933c"/>
                  </a:solidFill>
                  <a:latin typeface="Comic Sans MS"/>
                </a:rPr>
                <a:t>Help yourselves to drinks and sna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Title 1"/>
          <p:cNvGrpSpPr/>
          <p:nvPr/>
        </p:nvGrpSpPr>
        <p:grpSpPr>
          <a:xfrm>
            <a:off x="1189080" y="152280"/>
            <a:ext cx="7931160" cy="1378080"/>
            <a:chOff x="1189080" y="152280"/>
            <a:chExt cx="7931160" cy="1378080"/>
          </a:xfrm>
        </p:grpSpPr>
        <p:pic>
          <p:nvPicPr>
            <p:cNvPr id="703" name="Title 1" descr=""/>
            <p:cNvPicPr/>
            <p:nvPr/>
          </p:nvPicPr>
          <p:blipFill>
            <a:blip r:embed="rId1"/>
            <a:stretch/>
          </p:blipFill>
          <p:spPr>
            <a:xfrm>
              <a:off x="1189080" y="152280"/>
              <a:ext cx="79311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270080" y="228600"/>
              <a:ext cx="7772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What is </a:t>
              </a:r>
              <a:r>
                <a:rPr b="1" i="1" lang="en-US" sz="4400" spc="-1" strike="noStrike">
                  <a:solidFill>
                    <a:srgbClr val="604a7b"/>
                  </a:solidFill>
                  <a:latin typeface="Comic Sans MS"/>
                </a:rPr>
                <a:t>a Text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Content Placeholder 2"/>
          <p:cNvGrpSpPr/>
          <p:nvPr/>
        </p:nvGrpSpPr>
        <p:grpSpPr>
          <a:xfrm>
            <a:off x="530280" y="1523880"/>
            <a:ext cx="8692920" cy="4956120"/>
            <a:chOff x="530280" y="1523880"/>
            <a:chExt cx="8692920" cy="4956120"/>
          </a:xfrm>
        </p:grpSpPr>
        <p:pic>
          <p:nvPicPr>
            <p:cNvPr id="70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30280" y="1523880"/>
              <a:ext cx="869292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609480" y="1600200"/>
              <a:ext cx="853452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18960" indent="-31896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exts communicate a message, either written or spoke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Anything that can be the subject of analysis, interpreta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would you describe as text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usi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Danc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rtwork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Cloth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heatrical Produc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Rectangle 2"/>
          <p:cNvGrpSpPr/>
          <p:nvPr/>
        </p:nvGrpSpPr>
        <p:grpSpPr>
          <a:xfrm>
            <a:off x="1139760" y="152280"/>
            <a:ext cx="7931160" cy="1298520"/>
            <a:chOff x="1139760" y="152280"/>
            <a:chExt cx="7931160" cy="1298520"/>
          </a:xfrm>
        </p:grpSpPr>
        <p:pic>
          <p:nvPicPr>
            <p:cNvPr id="709" name="Rectangle 2" descr=""/>
            <p:cNvPicPr/>
            <p:nvPr/>
          </p:nvPicPr>
          <p:blipFill>
            <a:blip r:embed="rId1"/>
            <a:stretch/>
          </p:blipFill>
          <p:spPr>
            <a:xfrm>
              <a:off x="1139760" y="152280"/>
              <a:ext cx="793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19320" y="2286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Multimodal literaci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Rectangle 3"/>
          <p:cNvGrpSpPr/>
          <p:nvPr/>
        </p:nvGrpSpPr>
        <p:grpSpPr>
          <a:xfrm>
            <a:off x="530280" y="1444680"/>
            <a:ext cx="8692920" cy="5492520"/>
            <a:chOff x="530280" y="1444680"/>
            <a:chExt cx="8692920" cy="5492520"/>
          </a:xfrm>
        </p:grpSpPr>
        <p:pic>
          <p:nvPicPr>
            <p:cNvPr id="712" name="Rectangle 3" descr=""/>
            <p:cNvPicPr/>
            <p:nvPr/>
          </p:nvPicPr>
          <p:blipFill>
            <a:blip r:embed="rId2"/>
            <a:stretch/>
          </p:blipFill>
          <p:spPr>
            <a:xfrm>
              <a:off x="530280" y="1444680"/>
              <a:ext cx="8692920" cy="54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609480" y="1523880"/>
              <a:ext cx="8534520" cy="53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Different literacy practices engage different and multiple semiotic systems (sign systems)  to make mean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ultiple contexts: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 The social situations, with particular norms (rules), that guide what we do and wh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8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Multiple purposes: 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hy we engage in literacy pract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3366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Comic Sans MS"/>
                  <a:ea typeface="Arial"/>
                </a:rPr>
                <a:t>Multiple texts and tools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: The things we use as we engage in literacy pract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660066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Comic Sans MS"/>
                  <a:ea typeface="Arial"/>
                </a:rPr>
                <a:t>Multiple skills: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 What we need to be able to do or know in order to use particular texts and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Texts can exist in different semiotic modes and be both products and tools of literacy practic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hat, then, are some examples of texts? (Also see Evans, p. 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does this mean for teaching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60560" cy="1595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3390840" cy="22575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076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"/>
          <p:cNvPicPr/>
          <p:nvPr/>
        </p:nvPicPr>
        <p:blipFill>
          <a:blip r:embed="rId4"/>
          <a:stretch/>
        </p:blipFill>
        <p:spPr>
          <a:xfrm>
            <a:off x="0" y="2438280"/>
            <a:ext cx="2583000" cy="129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7" descr=""/>
          <p:cNvPicPr/>
          <p:nvPr/>
        </p:nvPicPr>
        <p:blipFill>
          <a:blip r:embed="rId5"/>
          <a:stretch/>
        </p:blipFill>
        <p:spPr>
          <a:xfrm>
            <a:off x="32767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0" descr=""/>
          <p:cNvPicPr/>
          <p:nvPr/>
        </p:nvPicPr>
        <p:blipFill>
          <a:blip r:embed="rId6"/>
          <a:stretch/>
        </p:blipFill>
        <p:spPr>
          <a:xfrm>
            <a:off x="2666880" y="3962520"/>
            <a:ext cx="2210040" cy="19717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1" descr=""/>
          <p:cNvPicPr/>
          <p:nvPr/>
        </p:nvPicPr>
        <p:blipFill>
          <a:blip r:embed="rId7"/>
          <a:stretch/>
        </p:blipFill>
        <p:spPr>
          <a:xfrm>
            <a:off x="4876920" y="4114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2" descr=""/>
          <p:cNvPicPr/>
          <p:nvPr/>
        </p:nvPicPr>
        <p:blipFill>
          <a:blip r:embed="rId8"/>
          <a:stretch/>
        </p:blipFill>
        <p:spPr>
          <a:xfrm>
            <a:off x="0" y="3962520"/>
            <a:ext cx="2719440" cy="2528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4" descr=""/>
          <p:cNvPicPr/>
          <p:nvPr/>
        </p:nvPicPr>
        <p:blipFill>
          <a:blip r:embed="rId9"/>
          <a:stretch/>
        </p:blipFill>
        <p:spPr>
          <a:xfrm>
            <a:off x="6324480" y="3124080"/>
            <a:ext cx="2819520" cy="34498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11"/>
          <p:cNvSpPr/>
          <p:nvPr/>
        </p:nvSpPr>
        <p:spPr>
          <a:xfrm>
            <a:off x="3663000" y="601992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-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Rectangle 2"/>
          <p:cNvGrpSpPr/>
          <p:nvPr/>
        </p:nvGrpSpPr>
        <p:grpSpPr>
          <a:xfrm>
            <a:off x="609480" y="530280"/>
            <a:ext cx="7931160" cy="1073160"/>
            <a:chOff x="609480" y="530280"/>
            <a:chExt cx="7931160" cy="1073160"/>
          </a:xfrm>
        </p:grpSpPr>
        <p:pic>
          <p:nvPicPr>
            <p:cNvPr id="725" name="Rectangle 2" descr=""/>
            <p:cNvPicPr/>
            <p:nvPr/>
          </p:nvPicPr>
          <p:blipFill>
            <a:blip r:embed="rId1"/>
            <a:stretch/>
          </p:blipFill>
          <p:spPr>
            <a:xfrm>
              <a:off x="609480" y="530280"/>
              <a:ext cx="7931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685800" y="60948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Semiotic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Rectangle 3"/>
          <p:cNvGrpSpPr/>
          <p:nvPr/>
        </p:nvGrpSpPr>
        <p:grpSpPr>
          <a:xfrm>
            <a:off x="682560" y="1371600"/>
            <a:ext cx="8540640" cy="4883040"/>
            <a:chOff x="682560" y="1371600"/>
            <a:chExt cx="8540640" cy="4883040"/>
          </a:xfrm>
        </p:grpSpPr>
        <p:pic>
          <p:nvPicPr>
            <p:cNvPr id="728" name="Rectangle 3" descr=""/>
            <p:cNvPicPr/>
            <p:nvPr/>
          </p:nvPicPr>
          <p:blipFill>
            <a:blip r:embed="rId2"/>
            <a:stretch/>
          </p:blipFill>
          <p:spPr>
            <a:xfrm>
              <a:off x="682560" y="1371600"/>
              <a:ext cx="854064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62120" y="1447920"/>
              <a:ext cx="838188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Semiotics refers to making and representing meaning; broader than reading and writing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A few key semiotic syste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lphabetic/Charac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us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athemat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Digital/technolog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rti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Kinesthetic/phys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he Cueing System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3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Used by readers to “unlock” the printed 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Graphophonem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Pho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Semant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Mea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Syntact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Gramm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Pragmat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How we use language based on our social situ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7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Grapho-phonemic System – Pho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Rectangle 4"/>
          <p:cNvGrpSpPr/>
          <p:nvPr/>
        </p:nvGrpSpPr>
        <p:grpSpPr>
          <a:xfrm>
            <a:off x="987480" y="1676520"/>
            <a:ext cx="7778520" cy="4883040"/>
            <a:chOff x="987480" y="1676520"/>
            <a:chExt cx="7778520" cy="4883040"/>
          </a:xfrm>
        </p:grpSpPr>
        <p:pic>
          <p:nvPicPr>
            <p:cNvPr id="740" name="Rectangle 4" descr=""/>
            <p:cNvPicPr/>
            <p:nvPr/>
          </p:nvPicPr>
          <p:blipFill>
            <a:blip r:embed="rId2"/>
            <a:stretch/>
          </p:blipFill>
          <p:spPr>
            <a:xfrm>
              <a:off x="987480" y="1676520"/>
              <a:ext cx="777852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1066680" y="1752480"/>
              <a:ext cx="7620120" cy="47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Symbol systems of oral and written language and the relationship between th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System of written language – orthographic system – how print is organiz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pell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Let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Punctuation Ma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Phr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Phonics – Relationship between phonological and orthographic systems. What readers learn to understand as the complex relationship between how we talk and how language is organized in written tex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43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04a7b"/>
                  </a:solidFill>
                  <a:latin typeface="Comic Sans MS"/>
                </a:rPr>
                <a:t>Semantic System -- Mean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Rectangle 3"/>
          <p:cNvGrpSpPr/>
          <p:nvPr/>
        </p:nvGrpSpPr>
        <p:grpSpPr>
          <a:xfrm>
            <a:off x="609480" y="1444680"/>
            <a:ext cx="7931160" cy="4578120"/>
            <a:chOff x="609480" y="1444680"/>
            <a:chExt cx="7931160" cy="4578120"/>
          </a:xfrm>
        </p:grpSpPr>
        <p:pic>
          <p:nvPicPr>
            <p:cNvPr id="746" name="Rectangle 3" descr=""/>
            <p:cNvPicPr/>
            <p:nvPr/>
          </p:nvPicPr>
          <p:blipFill>
            <a:blip r:embed="rId2"/>
            <a:stretch/>
          </p:blipFill>
          <p:spPr>
            <a:xfrm>
              <a:off x="609480" y="1444680"/>
              <a:ext cx="7931160" cy="45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685800" y="1523880"/>
              <a:ext cx="777240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Heart of languag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Relationships between language and mean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words and phrases mean and how that chang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Strongly related to cultural grou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oda vs. po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ilk shake vs. frapp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ub vs. hoag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Rectangle 2"/>
          <p:cNvGrpSpPr/>
          <p:nvPr/>
        </p:nvGrpSpPr>
        <p:grpSpPr>
          <a:xfrm>
            <a:off x="1292400" y="609480"/>
            <a:ext cx="7029360" cy="1225800"/>
            <a:chOff x="1292400" y="609480"/>
            <a:chExt cx="7029360" cy="1225800"/>
          </a:xfrm>
        </p:grpSpPr>
        <p:pic>
          <p:nvPicPr>
            <p:cNvPr id="749" name="Rectangle 2" descr=""/>
            <p:cNvPicPr/>
            <p:nvPr/>
          </p:nvPicPr>
          <p:blipFill>
            <a:blip r:embed="rId1"/>
            <a:stretch/>
          </p:blipFill>
          <p:spPr>
            <a:xfrm>
              <a:off x="1292400" y="609480"/>
              <a:ext cx="70293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371600" y="685800"/>
              <a:ext cx="6870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Syntactic System – Gramm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Rectangle 3"/>
          <p:cNvGrpSpPr/>
          <p:nvPr/>
        </p:nvGrpSpPr>
        <p:grpSpPr>
          <a:xfrm>
            <a:off x="987480" y="1596960"/>
            <a:ext cx="7778520" cy="4730760"/>
            <a:chOff x="987480" y="1596960"/>
            <a:chExt cx="7778520" cy="4730760"/>
          </a:xfrm>
        </p:grpSpPr>
        <p:pic>
          <p:nvPicPr>
            <p:cNvPr id="752" name="Rectangle 3" descr=""/>
            <p:cNvPicPr/>
            <p:nvPr/>
          </p:nvPicPr>
          <p:blipFill>
            <a:blip r:embed="rId2"/>
            <a:stretch/>
          </p:blipFill>
          <p:spPr>
            <a:xfrm>
              <a:off x="987480" y="1596960"/>
              <a:ext cx="777852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1066680" y="1676520"/>
              <a:ext cx="7620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Relationship of words, sentences, paragrap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ord order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e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Numb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Gen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ere parts of speech go in a sente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How we string words together to sound like 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Structural rules of 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Does this sound like languag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55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Pragmatic System – Language in U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Rectangle 3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58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ake into consideration the social, cultural, and historical context of language in us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we know about how and when to change language to particular social setting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Is your mother there?” (in a phone conversation) – implies “Is your mother at home? I’d like to speak to her.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61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Read the following passage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Rectangle 3"/>
          <p:cNvGrpSpPr/>
          <p:nvPr/>
        </p:nvGrpSpPr>
        <p:grpSpPr>
          <a:xfrm>
            <a:off x="914400" y="1981080"/>
            <a:ext cx="7473960" cy="3737160"/>
            <a:chOff x="914400" y="1981080"/>
            <a:chExt cx="7473960" cy="3737160"/>
          </a:xfrm>
        </p:grpSpPr>
        <p:pic>
          <p:nvPicPr>
            <p:cNvPr id="764" name="Rectangle 3" descr=""/>
            <p:cNvPicPr/>
            <p:nvPr/>
          </p:nvPicPr>
          <p:blipFill>
            <a:blip r:embed="rId2"/>
            <a:stretch/>
          </p:blipFill>
          <p:spPr>
            <a:xfrm>
              <a:off x="914400" y="1981080"/>
              <a:ext cx="7473960" cy="37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990720" y="2057400"/>
              <a:ext cx="7315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The </a:t>
              </a:r>
              <a:r>
                <a:rPr b="1" i="1" lang="en-US" sz="2800" spc="-1" strike="noStrike">
                  <a:solidFill>
                    <a:srgbClr val="77933c"/>
                  </a:solidFill>
                  <a:latin typeface="Comic Sans MS"/>
                </a:rPr>
                <a:t>tam </a:t>
              </a: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sat directly on top of his hea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is a </a:t>
              </a: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tam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How did you know how to read this passag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cues did you us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Outco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5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scribe literacy experienc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fine and describe types of text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fine multimodalit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Evaluate current literacy instruc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iscuss Critical Literacy and it’s importanc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scribe Inquiry Proces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Identify an area of literacy instruction for Inquir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6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 the follow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7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R u home? OMG!  LOL. BRB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What do these mea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How do you k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What cueing system did you us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7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Read the following passag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7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Them chicken jackin my style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They try to copy my swagger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I'm on that next s*** now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I'm so 3008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You so 2000 and 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a chicke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she saying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do you know? What cueing system did you u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79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Read the following passage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Rectangle 3"/>
          <p:cNvGrpSpPr/>
          <p:nvPr/>
        </p:nvGrpSpPr>
        <p:grpSpPr>
          <a:xfrm>
            <a:off x="1176480" y="1523880"/>
            <a:ext cx="7132320" cy="4651560"/>
            <a:chOff x="1176480" y="1523880"/>
            <a:chExt cx="7132320" cy="4651560"/>
          </a:xfrm>
        </p:grpSpPr>
        <p:pic>
          <p:nvPicPr>
            <p:cNvPr id="782" name="Rectangle 3" descr=""/>
            <p:cNvPicPr/>
            <p:nvPr/>
          </p:nvPicPr>
          <p:blipFill>
            <a:blip r:embed="rId2"/>
            <a:stretch/>
          </p:blipFill>
          <p:spPr>
            <a:xfrm>
              <a:off x="1176480" y="1523880"/>
              <a:ext cx="713232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1254240" y="1600200"/>
              <a:ext cx="697536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77933c"/>
                  </a:solidFill>
                  <a:latin typeface="Comic Sans MS"/>
                </a:rPr>
                <a:t>Jackie G. had 12 assists, 11 service points, and four aces. Taylor C. and Paige L. led the offensive attack with a combined 17 kills. Rachel F. and Jenny M. both added 10 dig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this passage talking abou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are “kills” and “digs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do you know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cues did you u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85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 the follow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Rectangle 3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88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77933c"/>
                  </a:solidFill>
                  <a:latin typeface="Comic Sans MS"/>
                </a:rPr>
                <a:t>Within diasporic public spheres, where politics are played out across national boundaries, we are seeing  the emergence of  a “postnational political order”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this passage talking abou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a “</a:t>
              </a:r>
              <a:r>
                <a:rPr b="0" i="1" lang="en-US" sz="2400" spc="-1" strike="noStrike">
                  <a:solidFill>
                    <a:srgbClr val="77933c"/>
                  </a:solidFill>
                  <a:latin typeface="Comic Sans MS"/>
                </a:rPr>
                <a:t>postnational political order?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do you know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cues did you u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91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04a7b"/>
                  </a:solidFill>
                  <a:latin typeface="Comic Sans MS"/>
                </a:rPr>
                <a:t>Take a look at the following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Rectangle 3"/>
          <p:cNvGrpSpPr/>
          <p:nvPr/>
        </p:nvGrpSpPr>
        <p:grpSpPr>
          <a:xfrm>
            <a:off x="762120" y="1596960"/>
            <a:ext cx="7546680" cy="4273560"/>
            <a:chOff x="762120" y="1596960"/>
            <a:chExt cx="7546680" cy="4273560"/>
          </a:xfrm>
        </p:grpSpPr>
        <p:pic>
          <p:nvPicPr>
            <p:cNvPr id="794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596960"/>
              <a:ext cx="7546680" cy="42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8080" y="1676520"/>
              <a:ext cx="73915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Es waren einmal drei Bären, die in einem kleinen Häuschen mitten im Wald wohnten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Es </a:t>
              </a: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gab einen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 Papa </a:t>
              </a: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Bär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einen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 Mama </a:t>
              </a: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Bär 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einen Baby Bär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77933c"/>
                  </a:solidFill>
                  <a:latin typeface="Comic Sans MS"/>
                </a:rPr>
                <a:t>Does this help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Title 1"/>
          <p:cNvGrpSpPr/>
          <p:nvPr/>
        </p:nvGrpSpPr>
        <p:grpSpPr>
          <a:xfrm>
            <a:off x="762120" y="530280"/>
            <a:ext cx="7626240" cy="920520"/>
            <a:chOff x="762120" y="530280"/>
            <a:chExt cx="7626240" cy="920520"/>
          </a:xfrm>
        </p:grpSpPr>
        <p:pic>
          <p:nvPicPr>
            <p:cNvPr id="79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38080" y="609480"/>
              <a:ext cx="7470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Exercise #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Content Placeholder 2"/>
          <p:cNvGrpSpPr/>
          <p:nvPr/>
        </p:nvGrpSpPr>
        <p:grpSpPr>
          <a:xfrm>
            <a:off x="1219320" y="1371600"/>
            <a:ext cx="6632280" cy="4834080"/>
            <a:chOff x="1219320" y="1371600"/>
            <a:chExt cx="6632280" cy="4834080"/>
          </a:xfrm>
        </p:grpSpPr>
        <p:pic>
          <p:nvPicPr>
            <p:cNvPr id="80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1219320" y="1371600"/>
              <a:ext cx="663228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295280" y="1447920"/>
              <a:ext cx="6477120" cy="46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. Grw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1. dlghtf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2. Knw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2. H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3. Nd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3. cr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4. Ws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4. rm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5. Whn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5. th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6. Ld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6. btw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7. Grdn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7. hncfr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8. Flwr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8. ms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9. t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9. kn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0. Spps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20. T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Taken from:  Wilde, S. (2000). </a:t>
              </a:r>
              <a:r>
                <a:rPr b="0" i="1" lang="en-US" sz="1800" spc="-1" strike="noStrike">
                  <a:solidFill>
                    <a:srgbClr val="77933c"/>
                  </a:solidFill>
                  <a:latin typeface="Comic Sans MS"/>
                </a:rPr>
                <a:t>Miscue Analysis Made Easy: Building on Student Strengths</a:t>
              </a: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. Portsmouth, NH: Heinem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0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Exercise #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0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ll chldrn, xcpt n,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gr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p. thy sn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kn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t thy wll grw p,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n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 wy Wndy knw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ws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s.  N dy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wh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sh ws tw yrs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l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sh ws plyng n a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grd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nd sh plckd nthr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flwr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nd rn wth t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t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r mthr. I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spps 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sh mst hv lkd rthr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dlghtfl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fr Mrs. Drlng pt hr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hn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 hr hrt nd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cr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“h, why cn’t y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rm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lk ths vr!”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ths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ws ll tht pssd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btw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m n th sbjct, bt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hncfrth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Wndy knw th th, sh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mst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grw p.  y lwys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kn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ftr y r tw. 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T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s th begnnng f th nd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0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What do “Good Readers” Do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1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Think about the previous exerci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At your table make a list of the things that “good readers” 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scuss how you teach currently teach of the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Is there anything missing? Why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15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Putting it All Togeth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18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Semiotic Systems-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fferent modes for communicating messag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Cueing Systems-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the tools readers use to unlock the messag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6 Language Arts-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the literacy skills that are taught in the Elementary/Middle School Classro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Title 1"/>
          <p:cNvGrpSpPr/>
          <p:nvPr/>
        </p:nvGrpSpPr>
        <p:grpSpPr>
          <a:xfrm>
            <a:off x="762120" y="530280"/>
            <a:ext cx="7626240" cy="847800"/>
            <a:chOff x="762120" y="530280"/>
            <a:chExt cx="7626240" cy="847800"/>
          </a:xfrm>
        </p:grpSpPr>
        <p:pic>
          <p:nvPicPr>
            <p:cNvPr id="82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838080" y="609480"/>
              <a:ext cx="7470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Critical Literac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Content Placeholder 2"/>
          <p:cNvGrpSpPr/>
          <p:nvPr/>
        </p:nvGrpSpPr>
        <p:grpSpPr>
          <a:xfrm>
            <a:off x="762120" y="1219320"/>
            <a:ext cx="7626240" cy="4986360"/>
            <a:chOff x="762120" y="1219320"/>
            <a:chExt cx="7626240" cy="4986360"/>
          </a:xfrm>
        </p:grpSpPr>
        <p:pic>
          <p:nvPicPr>
            <p:cNvPr id="82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219320"/>
              <a:ext cx="762624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838080" y="1295280"/>
              <a:ext cx="7467840" cy="48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Critical literacy is the ability to read texts in an active, reflective manner in order to better understand power, inequality, and injustice in human relationship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Students’ cultural knowledge and multimedia practices should be used (Comber, 2001, Vasquez, 20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When we read we bring with us our past experiences  and understandings about how the world works. (Vasquez, 20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Key Term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6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Multiple literacies/Multiliterac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Multimoda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Semiotic Systems (Sign System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Cueing Syste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Graphophon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yntacti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eman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Pragma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2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Critical Literac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3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The ability to read other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“…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. the possibility of understanding our own and others’ experiences from that many more vantage point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Valuing, exploring, and appreciating multiple perspectives  in the classroom.”  (Johnston, 1997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3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How can we teach it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3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Compare texts- incorporate literature with “real-life” tex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Discuss characters’ perspecti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Make connections (Text to Self, Text to World, Text to Tex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Use children’s literature to focus on social issu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Encourage children to take 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Incorporate a variety of texts mo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3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 1</a:t>
              </a:r>
              <a:r>
                <a:rPr b="1" lang="en-US" sz="4400" spc="-1" strike="noStrike" baseline="30000">
                  <a:solidFill>
                    <a:srgbClr val="604a7b"/>
                  </a:solidFill>
                  <a:latin typeface="Comic Sans MS"/>
                </a:rPr>
                <a:t>st</a:t>
              </a: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 Grade Examp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4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National Geographic K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ttp://kids.nationalgeographic.com/kids/animals/creaturefeature/harp-seals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Kids 4 Sea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ttp://www.kids4seals.org/index.ht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Title 1"/>
          <p:cNvGrpSpPr/>
          <p:nvPr/>
        </p:nvGrpSpPr>
        <p:grpSpPr>
          <a:xfrm>
            <a:off x="762120" y="530280"/>
            <a:ext cx="7626240" cy="1000080"/>
            <a:chOff x="762120" y="530280"/>
            <a:chExt cx="7626240" cy="1000080"/>
          </a:xfrm>
        </p:grpSpPr>
        <p:pic>
          <p:nvPicPr>
            <p:cNvPr id="845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838080" y="609480"/>
              <a:ext cx="7470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Inquiry Proce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Content Placeholder 2"/>
          <p:cNvGrpSpPr/>
          <p:nvPr/>
        </p:nvGrpSpPr>
        <p:grpSpPr>
          <a:xfrm>
            <a:off x="609480" y="1292400"/>
            <a:ext cx="8156520" cy="4913280"/>
            <a:chOff x="609480" y="1292400"/>
            <a:chExt cx="8156520" cy="4913280"/>
          </a:xfrm>
        </p:grpSpPr>
        <p:pic>
          <p:nvPicPr>
            <p:cNvPr id="848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609480" y="1292400"/>
              <a:ext cx="8156520" cy="49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685800" y="1371600"/>
              <a:ext cx="8001000" cy="47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Topics based on student curiosity, questions, interes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Dig deeply into complex, authentic topics that mat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Flexible grou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Student responsibility with peer leadershi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Use of proficient reader/thinker researcher strategi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Draws on multigenre, multimedia resour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Going beyond fact-finding to synthesizing and applying knowled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Actively using knowledge: take action, share, go publi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Match kids’ learning to state and district curriculu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5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Why Inquir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5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Focuses on children’s natural inquisitiveness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Student control, responsibility and choice increases self-efficacy and is motivat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Helps develop problem-solving skill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Students are engaged in authentic, meaningful learning experience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Small group interactions are “life-like”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Allows for differentiated instruc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Develops proficient readers and thinker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5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urn and Tal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6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scuss the following with a partner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Describe the student who would benefit from this proc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resources do you or your school have to support this proces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do you  see as a downsid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6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Starting the Proce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6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eachers model their curiosity and record questions in a noteboo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Share ways to answer quest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iscuss “researchable” quest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Provide a variety of resourc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Explicitly teach skills needed to navigate texts, interview, work cooperatively in a group, use tools for “going public” with the learn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6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-Arou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7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are some things you wonder about related to your literacy instruction (Refer to your continuum from this morning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ake time to explore the resources we have availabl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Make notes in your notebook about what you lea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ecide on a topic that you would like to learn more about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gend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6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Introdu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VoiceThread of the 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efining Literac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escribing Multimoda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scussion of Critical Literac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Lunch about 11:45 (Potbelly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Introduction to the Inquiry Proce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levant Informat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7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Wi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B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VoiceThre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Assignmen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75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Carouse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78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8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Defining Literac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8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Mind ma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Title 1"/>
          <p:cNvGrpSpPr/>
          <p:nvPr/>
        </p:nvGrpSpPr>
        <p:grpSpPr>
          <a:xfrm>
            <a:off x="762120" y="304920"/>
            <a:ext cx="7626240" cy="841320"/>
            <a:chOff x="762120" y="304920"/>
            <a:chExt cx="7626240" cy="841320"/>
          </a:xfrm>
        </p:grpSpPr>
        <p:pic>
          <p:nvPicPr>
            <p:cNvPr id="68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304920"/>
              <a:ext cx="7626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838080" y="380880"/>
              <a:ext cx="7470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Where are you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Content Placeholder 2"/>
          <p:cNvGrpSpPr/>
          <p:nvPr/>
        </p:nvGrpSpPr>
        <p:grpSpPr>
          <a:xfrm>
            <a:off x="152280" y="1066680"/>
            <a:ext cx="8918640" cy="5565960"/>
            <a:chOff x="152280" y="1066680"/>
            <a:chExt cx="8918640" cy="5565960"/>
          </a:xfrm>
        </p:grpSpPr>
        <p:pic>
          <p:nvPicPr>
            <p:cNvPr id="69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8918640" cy="55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228600" y="1143000"/>
              <a:ext cx="876312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7933c"/>
                  </a:solidFill>
                  <a:latin typeface="Comic Sans MS"/>
                </a:rPr>
                <a:t>What Matter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to read a 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he school day is organized in a way that allows students to engage in </a:t>
              </a:r>
              <a:r>
                <a:rPr b="1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uninterrupted, meaningful </a:t>
              </a: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re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ore emphasis on authentic reading tasks than isolated skill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books they can 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 variety of texts at various reading lev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tudents make choices about what they want to r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to read fluent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Use a variety of strategies to develop reading flu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thoughtful lite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tudents have the opportunity to engage in meaningful discussions with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tudents connect reading to their lives and have the opportunity to take action based on what they r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Instr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eachers have the opportunity to participate in Professional 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here are materials and resources available for teachers to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7933c"/>
                  </a:solidFill>
                  <a:latin typeface="Comic Sans MS"/>
                </a:rPr>
                <a:t>Think about your literacy program. Where do you fall on the continuu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60560" cy="1595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3390840" cy="22575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0765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4"/>
          <a:stretch/>
        </p:blipFill>
        <p:spPr>
          <a:xfrm>
            <a:off x="0" y="2438280"/>
            <a:ext cx="2583000" cy="12956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"/>
          <p:cNvPicPr/>
          <p:nvPr/>
        </p:nvPicPr>
        <p:blipFill>
          <a:blip r:embed="rId5"/>
          <a:stretch/>
        </p:blipFill>
        <p:spPr>
          <a:xfrm>
            <a:off x="32767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0" descr=""/>
          <p:cNvPicPr/>
          <p:nvPr/>
        </p:nvPicPr>
        <p:blipFill>
          <a:blip r:embed="rId6"/>
          <a:stretch/>
        </p:blipFill>
        <p:spPr>
          <a:xfrm>
            <a:off x="2666880" y="3962520"/>
            <a:ext cx="2210040" cy="19717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1" descr=""/>
          <p:cNvPicPr/>
          <p:nvPr/>
        </p:nvPicPr>
        <p:blipFill>
          <a:blip r:embed="rId7"/>
          <a:stretch/>
        </p:blipFill>
        <p:spPr>
          <a:xfrm>
            <a:off x="4876920" y="4114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2" descr=""/>
          <p:cNvPicPr/>
          <p:nvPr/>
        </p:nvPicPr>
        <p:blipFill>
          <a:blip r:embed="rId8"/>
          <a:stretch/>
        </p:blipFill>
        <p:spPr>
          <a:xfrm>
            <a:off x="0" y="3962520"/>
            <a:ext cx="2719440" cy="25286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4" descr=""/>
          <p:cNvPicPr/>
          <p:nvPr/>
        </p:nvPicPr>
        <p:blipFill>
          <a:blip r:embed="rId9"/>
          <a:stretch/>
        </p:blipFill>
        <p:spPr>
          <a:xfrm>
            <a:off x="6324480" y="3124080"/>
            <a:ext cx="2819520" cy="344988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1"/>
          <p:cNvSpPr/>
          <p:nvPr/>
        </p:nvSpPr>
        <p:spPr>
          <a:xfrm>
            <a:off x="3663000" y="601992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-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0:11Z</dcterms:created>
  <dc:creator> </dc:creator>
  <dc:description/>
  <dc:language>en-US</dc:language>
  <cp:lastModifiedBy> </cp:lastModifiedBy>
  <dcterms:modified xsi:type="dcterms:W3CDTF">2010-06-15T19:29:37Z</dcterms:modified>
  <cp:revision>90</cp:revision>
  <dc:subject/>
  <dc:title>C&amp;I 208- Semiotic (Sign)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3211033</vt:lpwstr>
  </property>
</Properties>
</file>